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7.wmf" ContentType="image/x-wmf"/>
  <Override PartName="/ppt/media/wind.wav" ContentType="audio/x-wav"/>
  <Override PartName="/ppt/media/image9.wmf" ContentType="image/x-wmf"/>
  <Override PartName="/ppt/media/image16.wmf" ContentType="image/x-wmf"/>
  <Override PartName="/ppt/media/voltage.wav" ContentType="audio/x-wav"/>
  <Override PartName="/ppt/media/image7.jpeg" ContentType="image/jpeg"/>
  <Override PartName="/ppt/media/laser.wav" ContentType="audio/x-wav"/>
  <Override PartName="/ppt/media/cashreg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breeze.wav" ContentType="audio/x-wav"/>
  <Override PartName="/ppt/media/type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19.jpeg" ContentType="image/jpeg"/>
  <Override PartName="/ppt/media/suction.wav" ContentType="audio/x-wav"/>
  <Override PartName="/ppt/media/image3.png" ContentType="image/png"/>
  <Override PartName="/ppt/media/image11.wmf" ContentType="image/x-wmf"/>
  <Override PartName="/ppt/media/image18.wmf" ContentType="image/x-wmf"/>
  <Override PartName="/ppt/media/image2.jpeg" ContentType="image/jpeg"/>
  <Override PartName="/ppt/media/push.wav" ContentType="audio/x-wav"/>
  <Override PartName="/ppt/media/image4.wmf" ContentType="image/x-wmf"/>
  <Override PartName="/ppt/media/click.wav" ContentType="audio/x-wav"/>
  <Override PartName="/ppt/media/image1.jpeg" ContentType="image/jpeg"/>
  <Override PartName="/ppt/media/image13.jpeg" ContentType="image/jpeg"/>
  <Override PartName="/ppt/media/image12.png" ContentType="image/png"/>
  <Override PartName="/ppt/media/drumroll.wav" ContentType="audio/x-wav"/>
  <Override PartName="/ppt/media/image14.wmf" ContentType="image/x-wmf"/>
  <Override PartName="/ppt/media/image15.jpeg" ContentType="image/jpeg"/>
  <Override PartName="/ppt/media/arrow.wav" ContentType="audio/x-wav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52F-7BF7-4536-B723-F0F69673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1AD-15FB-4FCC-A631-B09CD2A4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75F-7E69-4045-87C2-00EB9C16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E779-053E-4B85-B637-46A76C5A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1873-AF17-4D63-A22D-3604C940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C03-1E1D-4C6B-85EA-4E1A1FDA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8826-4712-404E-98C8-943A9134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B555-49DE-46BA-B8AC-D5CA412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021A-A440-4C26-B37C-9E750F88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3373-F1DD-43A5-B9F5-C954EC1D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6D1-0D04-46D5-8E03-8E115B9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8FF-E88E-4C8A-87D5-0620967A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43D6-27B6-464C-9338-1E6CC98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7513-9B77-4FF3-AC2E-731F4745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2871-9222-416F-B371-0D64AC6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96D8-50E5-4BBE-BC37-DD97BE64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9A21-A6CF-4778-BC37-43965EB7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3F0-F7AE-4664-A703-CEF1DB1A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EF1-6899-4952-9949-02EB909C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0DD-688D-43D3-B2E8-F68CE67E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5CA-2370-4E4A-BA6A-83FB12CA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9B9-7100-4D1E-9E6B-EDC488D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7C0-9D0A-4D8E-BB93-A954B05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5B8-AAD7-45A8-9F1A-21929EDE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01E8-A79C-4883-95CB-A6047901C5D1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CF7B-6EA1-4093-9F4B-EA1A748F19C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8f4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8f4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MSj03884630000%5B1%5D.wav" TargetMode="External"/><Relationship Id="rId3" Type="http://schemas.microsoft.com/office/2007/relationships/media" Target="file:///tmp/home/.config/libreoffice/4/user/gallery/MSj0388463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MSBD19014_0000%5B1%5D.wav" TargetMode="External"/><Relationship Id="rId3" Type="http://schemas.microsoft.com/office/2007/relationships/media" Target="file:///tmp/home/.config/libreoffice/4/user/gallery/MSBD19014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file:///tmp/home/.config/libreoffice/4/user/gallery/MSSN00771A0000%5B1%5D.wav" TargetMode="External"/><Relationship Id="rId3" Type="http://schemas.microsoft.com/office/2007/relationships/media" Target="file:///tmp/home/.config/libreoffice/4/user/gallery/MSSN00771A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MSBD18826_0000%5B1%5D.wav" TargetMode="External"/><Relationship Id="rId3" Type="http://schemas.microsoft.com/office/2007/relationships/media" Target="file:///tmp/home/.config/libreoffice/4/user/gallery/MSBD18826_0000%5B1%5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Windows%20XP%20Pop-up%20Blocked.wav" TargetMode="External"/><Relationship Id="rId3" Type="http://schemas.microsoft.com/office/2007/relationships/media" Target="file:///tmp/home/.config/libreoffice/4/user/gallery/Windows%20XP%20Pop-up%20Blocked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j0074799.wav" TargetMode="External"/><Relationship Id="rId3" Type="http://schemas.microsoft.com/office/2007/relationships/media" Target="file:///tmp/home/.config/libreoffice/4/user/gallery/j0074799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MSSN00542A0000%5B1%5D.wav" TargetMode="External"/><Relationship Id="rId3" Type="http://schemas.microsoft.com/office/2007/relationships/media" Target="file:///tmp/home/.config/libreoffice/4/user/gallery/MSSN00542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MSSN00831A0000%5B1%5D.wav" TargetMode="External"/><Relationship Id="rId3" Type="http://schemas.microsoft.com/office/2007/relationships/media" Target="file:///tmp/home/.config/libreoffice/4/user/gallery/MSSN00831A0000%5B1%5D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5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Turtle’s Race with Bea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Amazing Words and Vocabular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truggle or fight, especially one that goes on for a long tim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4181760" cy="354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  <p:sndAc>
      <p:stSnd>
        <p:snd r:embed="rId3" name="click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31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live in a plac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81480" y="2571840"/>
            <a:ext cx="3400200" cy="3524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drumroll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make a decision ; to solve or fix a problem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90920" y="2693880"/>
            <a:ext cx="441936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cashreg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gently talk someone into doing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2686320" cy="403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5" name="bomb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362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lope or slant that connects two different levels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274920"/>
            <a:ext cx="6400800" cy="2676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wind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6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surprise and shock very suddenly.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6259680" cy="3531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push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80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7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shawl or blanket that people can wear over their shirts; worn in Latin America with bright colors and strip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200400" cy="311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43000" y="4419720"/>
            <a:ext cx="28195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5" name="whoosh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1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355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time away from school or your usual duti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suction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3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5491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Vocabulary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challeng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lodge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dam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buri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embarrassed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  <a:p>
            <a:pPr marL="523800" indent="-523800">
              <a:spcBef>
                <a:spcPts val="11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8f48"/>
                </a:solidFill>
                <a:latin typeface="Arial"/>
              </a:rPr>
              <a:t>halfway</a:t>
            </a:r>
            <a:endParaRPr b="0" lang="en-US" sz="4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voltag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8f48"/>
                </a:solidFill>
                <a:latin typeface="Trebuchet MS"/>
              </a:rPr>
              <a:t>challenged (challenge)</a:t>
            </a:r>
            <a:endParaRPr b="0" lang="en-US" sz="5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call or invite someone to a game or contest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211560" cy="325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5" name="lase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17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lodge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den of an animal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010280" cy="35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35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dam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A wall built to hold back the water of a creek, lake, or river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477120" cy="3411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buried (bury)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hide or cover something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4791240" cy="314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81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78f48"/>
                </a:solidFill>
                <a:latin typeface="Trebuchet MS"/>
              </a:rPr>
              <a:t>embarrassed (embarrass)</a:t>
            </a:r>
            <a:endParaRPr b="0" lang="en-US" sz="4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feel that people are thinking of you badly because of something you said or did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1780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breeze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Trebuchet MS"/>
              </a:rPr>
              <a:t>halfway</a:t>
            </a:r>
            <a:endParaRPr b="0" lang="en-US" sz="6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 be in the middle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1295280" cy="1828800"/>
          </a:xfrm>
          <a:prstGeom prst="ellipse">
            <a:avLst/>
          </a:pr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654280" cy="32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5" name="arrow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786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mazing Wor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nflic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inhabit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esolv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coax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104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ramp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tartl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serape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  <a:p>
            <a:pPr marL="325800" indent="-325800">
              <a:spcBef>
                <a:spcPts val="165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8f48"/>
                </a:solidFill>
                <a:latin typeface="Arial"/>
              </a:rPr>
              <a:t>vacation</a:t>
            </a:r>
            <a:endParaRPr b="0" lang="en-US" sz="66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cashreg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16:20Z</dcterms:created>
  <dc:creator> </dc:creator>
  <dc:description/>
  <cp:keywords/>
  <dc:language>en-US</dc:language>
  <cp:lastModifiedBy> </cp:lastModifiedBy>
  <dcterms:modified xsi:type="dcterms:W3CDTF">2007-10-16T01:48:59Z</dcterms:modified>
  <cp:revision>2</cp:revision>
  <dc:subject/>
  <dc:title>Turtle’s Race with Beaver Amazing Words and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